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AAD-797B-468A-87F5-A3CD2000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AC3-E5FD-42AA-9803-6C3FFFB6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644-919A-4A37-83E8-5FEE4921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584-5174-4673-BCAA-A4964C5A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94D-50BA-47B6-A2C8-13A3F3DF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4FE-5A6D-4B70-A473-E2F62FB8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CB7-C40D-4788-9D76-70DB0ABB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414-B755-42E3-91D1-22F56162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61F-14F9-40CB-8B63-743C9965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B6D-D65F-49CB-8583-7803565E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CF0-BC1C-483E-BBF8-3A52C5F5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0C3-1950-4E09-BE1A-2901A487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9D6A-82B3-455D-A72F-BFC4B16B79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539640" y="1361880"/>
            <a:ext cx="8280360" cy="4483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Traktat Werslaski został podpisany przez państwa uczestników I wojny światowej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w dniu 28.06.1919 roku. Jego ratyfikacja nastąpiła w dniu 10.01.1920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Traktat Wersalski miał duży wpływ na kształt granic Polski. Aspiracje Polski obejmowały obok ziem należących przed 1772 rokiem do Polski także tereny zamieszkane przez większość polsk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Rada Najwyższa Konferencji powołała 18 stycznia 1919 r Komisję do Spraw Polskich. Chciała ona oddać Polsce Górny Śląsk, Wielkopolskę, Pomorze, Gdańsk oraz Dolny Śląsk oraz przeprowadzić plebiscyt na Warmii i Mazur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Korzystne dla Polski rozwiązania zniweczył sprzeciw Wielkiej Brytan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Ostatecznie Polska na mocy traktatu otrzymała Pomorze wschodnie bez Gdańs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Ponadto zarządzono plebiscyty na Górnym Śląsku i Mazur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2:13:05Z</dcterms:created>
  <dc:creator>rjuraszczyk</dc:creator>
  <dc:description/>
  <dc:language>en-US</dc:language>
  <cp:lastModifiedBy>IB</cp:lastModifiedBy>
  <dcterms:modified xsi:type="dcterms:W3CDTF">2013-03-14T17:26:25Z</dcterms:modified>
  <cp:revision>7</cp:revision>
  <dc:subject/>
  <dc:title>TRAKTAT WERSALSKI</dc:title>
</cp:coreProperties>
</file>